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6E3B-A58D-4BFA-B778-ABA5C7E8A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6136-EFB9-4516-A21F-B21A8C136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619F-4A28-4951-97A9-AA4A83199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6317-19CF-4909-ADCD-46ECB1B76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C120-ACF1-4990-BD99-4539EC1F9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4BEC-6E5E-45BE-A29D-6DDE2ECD8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B1EA-DB48-4134-AE6A-B7E3D2261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0253-E55E-4E12-AD17-FD1E9C2CF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5858-AD93-4AE7-9BEA-6271D21F8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79C5-BA70-435C-904B-39D567EFD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BFD4-5512-4688-A7A8-563031199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3599-0DE8-48CA-999E-0716EE4AC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0246C-9488-4E87-957E-8E5E2698BF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Prayer of Confession (SLD-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Merciful Go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ur maker and our judg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have sinned against you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thought, word, and dee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have not loved you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ith our whole hear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have not loved our neighbour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s ourselves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repent, and are sorr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or all our si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ather, forgive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Strengthen u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o love and obey you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newness of life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rough Jesus Christ our Lord. A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66"/>
                </a:solidFill>
                <a:latin typeface="Arial"/>
              </a:rPr>
              <a:t>The leader says a scripture sentence, and then s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Hear then Christ’s word of gra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o u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Your sins are forgiven.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anks be to Go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Mark 2: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609588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 Narrow"/>
              </a:rPr>
              <a:t>Prayer © 1999, </a:t>
            </a:r>
            <a:r>
              <a:rPr b="0" i="1" lang="en-US" sz="1800" spc="-1" strike="noStrike">
                <a:solidFill>
                  <a:srgbClr val="bbe0e3"/>
                </a:solidFill>
                <a:latin typeface="Arial Narrow"/>
              </a:rPr>
              <a:t>An Australian Prayer 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1T10:08:27Z</dcterms:created>
  <dc:creator>Anon Anon</dc:creator>
  <dc:description/>
  <dc:language>en-US</dc:language>
  <cp:lastModifiedBy>Anon Anon</cp:lastModifiedBy>
  <dcterms:modified xsi:type="dcterms:W3CDTF">2005-08-16T04:22:44Z</dcterms:modified>
  <cp:revision>15</cp:revision>
  <dc:subject/>
  <dc:title>PowerPoint Presentation</dc:title>
</cp:coreProperties>
</file>